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5.jpeg" ContentType="image/jpeg"/>
  <Override PartName="/ppt/media/image3.png" ContentType="image/png"/>
  <Override PartName="/ppt/media/image26.wmf" ContentType="image/x-wmf"/>
  <Override PartName="/ppt/media/image15.png" ContentType="image/png"/>
  <Override PartName="/ppt/media/image14.wmf" ContentType="image/x-wmf"/>
  <Override PartName="/ppt/media/image25.wmf" ContentType="image/x-wmf"/>
  <Override PartName="/ppt/media/image23.jpeg" ContentType="image/jpeg"/>
  <Override PartName="/ppt/media/image1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8B4-4776-4207-AD7B-82168EB9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767-9677-4555-B8C2-22970AAE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EAD-44B0-4F25-AA69-585A4F7A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869-5C4B-4DCD-ADC0-6B85B212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6ECF-24BB-4F6C-921E-106C7FD3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8FE4-94CF-4BDA-A2FC-D8380109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63FB-3D5E-4878-BC69-6F9CB4C8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C4A4-A671-42FC-872C-49E4A2A0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BE37-4700-4AB4-8CE1-C9843EAA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36E1-E2B5-4A2D-90D9-6F3D39D7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DD69-1A40-4995-863E-6ECDA658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9AB-A210-4929-BA3D-D884AC13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6D10-5F8F-4794-A044-83DCAA86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BA38-C796-4B2A-A2EE-E05108CD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351C-4CDA-44FD-9868-2688CE7D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3A93-C91B-4356-8B5A-F234B0C5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C8CB-8CE7-4728-B5E7-15C1E89F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EB929-F3C7-4BE8-A0F0-8D3FC1FF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443B3-D181-45FB-BF6E-C4FA950F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DFD8-5C4F-4DD1-9793-07296864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AD52-DDF8-4609-9C92-09E37449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C2474-F66F-4D5E-8AF3-19ED63D5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348-0CB7-4CDC-A133-0992E705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A542E-BC3D-4A91-BD4D-817A5817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520B-EEB0-489C-B30D-9A29C8EB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D23C-7F9B-4455-BB5B-57BA2CBB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99FBC-213C-46F1-9FD8-A407086F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FEF2-FAC1-453C-85EA-C24E2417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DD314-A8AB-487E-9D0A-B346E137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7AC2C-3366-4608-AF41-B9DD8DC0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5DCA8-00EC-42BE-8B79-BFFAA169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AF2DA-1C1F-4759-BDC1-F9BFA469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5F7F3-6CFF-4E0E-80CB-27D696AC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FB6-56A8-42B2-9B84-2F6C5DFF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51A48-4646-4A0F-94C6-4D2C002D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2A2DC-2C8F-4AE6-82B0-ECA7BEFA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BC3AC-8F37-4A79-9EA8-22C37D3A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6ACD6-ABF7-4B84-8562-2DABB229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86466-582D-4DB6-A6AC-F865BAB6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5A089-905E-4C78-86CB-96CF2BCD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9F6B1-78A3-413F-91BF-C3210DD9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95666-D74E-42ED-9099-BE1032A9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28869-6754-4198-BDA3-3047F0B5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F6371-CCC4-4361-80A3-1B1E0E34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84C-6E3E-47DE-8904-00D9441D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BA874-1658-4C04-9078-6EAC4D63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CB8D8-674F-4983-ABAA-1A3974F5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025C9-062D-41BF-A43A-5C433966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019B8-05E9-4B34-A8E0-FA160694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9766C-3C64-482C-ADA2-B4189539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2E56A-8837-43EC-A060-5697F305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256BC-454B-4AAF-8371-36855CC6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F5C0E-88E4-4C9E-8A16-60C0B0AC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1A9CD-8900-4C61-B336-E803267B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4821F-FCC0-420E-999E-58056AC9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722-9417-43D7-8933-C69E3028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66F30-9B0B-4AFF-B5C5-5302C1A8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DB0F2-005A-4C5D-B66D-B4789138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9AC14-76F8-4D1A-A540-15047891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24C0F-AC78-448E-BC20-6FABC0B0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79719-A6FA-4A39-9A4B-7E15FD55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5F2BC-557F-4E70-AD28-B0522B73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FA411-3353-4038-8CE4-DEEE7D11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DE58B-60BE-45AD-9469-E77EFC7E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2EFD9-FEFC-4C30-9BE2-8123FC1B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BEFE1-E5F0-4887-BE01-26D27909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342-6AEC-40C5-845F-67C1C044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66A72-7BB3-401B-8EA5-1F4DDAAA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F0125-A740-40D0-9B89-83C4DDC7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5D284-D9CB-4AEA-922B-6F937D01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71032-6D56-4578-A4AB-C67EC560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52068-6878-48F2-B03E-512D94DE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372D5-7F43-4FE8-AB9C-4F0F655E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02997-A0B8-4AD1-9064-B4919658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49D31-E40A-4178-8DA7-76551B11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01E4B-9D2E-4968-B40F-937EAF61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AB27A-FF79-4212-ABB5-13922E4A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3CF-EC2B-4B28-81DA-439BF39F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C851B-95D2-4C9F-875C-B8D1093A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205B2-24C3-4561-970B-62F25D91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5A401-D5B3-4EAA-8743-D647A21A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85725-42D9-4B0E-BD44-D304F4F0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0E797-41F7-418B-8A09-9CBDEC52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3F922-2553-4E50-B7D3-D00F1DA0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17BE2-46F4-4E6A-9872-7C5DB5AD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72CCA-432C-4C57-817B-102A05B2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6CB04-75E1-4F4E-A2EE-2F090AA8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9D6FC-629F-447E-9292-6FBA7323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E245-6B7C-44A9-B758-23ABE448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8F23B-B380-4A5B-B888-323B3017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B3F94-5703-4C94-8EC5-7EDE829B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DA083-E62A-4AE3-A674-7AED4CCB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7B2AF-068C-423B-B946-8D35097E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C3E62-A79E-4555-AF06-236EE2FB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1D003-0D09-403A-B855-B4266DED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4A2EE-A5A5-4C53-BD6E-8CC53E9F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Łącznik prosty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AB46-5E73-41CB-B026-AFCF701D615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Łącznik prosty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1DDC-C096-4F50-8612-88B4FE6AA81B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4486-8046-4F10-9DDC-F54F240C0FDB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0CAF-FC50-44EE-867C-7BAB60114990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5A43-49D3-4589-8AF0-B584D3E89587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4B9F-6FE8-4D81-B502-36A87958F11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52DE-7162-4CA1-A830-F699171520F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Łącznik prosty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BB6F-ACE7-43C1-8CB9-EC9CD021ED72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modpoz.pl/files/plan2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828720"/>
            <a:ext cx="8089920" cy="14572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5181480" y="4495680"/>
            <a:ext cx="2895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3" descr="C:\Users\Marzena\AppData\Local\Microsoft\Windows\Temporary Internet Files\Content.IE5\BBL10B36\MC900343341[1].wmf"/>
          <p:cNvPicPr/>
          <p:nvPr/>
        </p:nvPicPr>
        <p:blipFill>
          <a:blip r:embed="rId2"/>
          <a:stretch/>
        </p:blipFill>
        <p:spPr>
          <a:xfrm>
            <a:off x="2627280" y="2565360"/>
            <a:ext cx="3537000" cy="35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24000" y="14810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Najczęstszymi przyczynami , dla których może zajść konieczność ogłoszenia alarmu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 szkole, to zagrożenia związane z powstaniem pożaru a także możliwość rozprzestrzenienia na terenie szkoły niebezpiecznych substancji chemicznych lub ładunków wybuchowy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8068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Users\Marzena\AppData\Local\Microsoft\Windows\Temporary Internet Files\Content.IE5\2RQKC6FH\MC900340838[1].wmf"/>
          <p:cNvPicPr/>
          <p:nvPr/>
        </p:nvPicPr>
        <p:blipFill>
          <a:blip r:embed="rId2"/>
          <a:stretch/>
        </p:blipFill>
        <p:spPr>
          <a:xfrm>
            <a:off x="7164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Dyrektor po otrzymaniu meldunku od nauczyciela lub innej osoby zgłaszającej zagrożenie oraz rozpoznaniu sytuacji podejmuje decyzję o zawiadomieniu straży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i ogłoszeniu alarmu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Uczniowie na polecenie nauczyciela ustawiają się w szeregu i w sposób zorganizowany kierują się do wskazanego wyjścia ewakuacyjneg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ytuł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C:\Users\Marzena\AppData\Local\Microsoft\Windows\Temporary Internet Files\Content.IE5\LW2ZZFIX\MC900355335[1].wmf"/>
          <p:cNvPicPr/>
          <p:nvPr/>
        </p:nvPicPr>
        <p:blipFill>
          <a:blip r:embed="rId2"/>
          <a:stretch/>
        </p:blipFill>
        <p:spPr>
          <a:xfrm>
            <a:off x="6516720" y="4581360"/>
            <a:ext cx="206064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24000" y="1480680"/>
            <a:ext cx="864072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łuchaj i wykonuj dokładnie polecenia nauczyciel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bądź opanowany, nie ulegaj panice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o przerwaniu zajęć udaj się wraz z klasą, drogą wskazywaną przez nauczyciela na miejsce zbiórki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omagaj osobom słabszym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bezwzględnie podporządkowuj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ię osobom funkcyjnym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nie lekceważ zagrożenia, nawet wówczas, gdy  nie zagraża ci bezpośredni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ytuł 2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44884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C:\Users\Marzena\AppData\Local\Microsoft\Windows\Temporary Internet Files\Content.IE5\2RQKC6FH\MC900404189[1].wm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020000" y="3789360"/>
            <a:ext cx="18540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4" descr=""/>
          <p:cNvPicPr/>
          <p:nvPr/>
        </p:nvPicPr>
        <p:blipFill>
          <a:blip r:embed="rId1"/>
          <a:stretch/>
        </p:blipFill>
        <p:spPr>
          <a:xfrm>
            <a:off x="438120" y="469800"/>
            <a:ext cx="8345520" cy="951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68360" y="2997000"/>
            <a:ext cx="367200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Kierunek do wyjścia drogi ewakuacyjnej schodami w dół (na prawo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16" descr="Kierunek do wyjścia do drogi ewakuacyjnej schodami w dół w prawo;"/>
          <p:cNvPicPr/>
          <p:nvPr/>
        </p:nvPicPr>
        <p:blipFill>
          <a:blip r:embed="rId2"/>
          <a:stretch/>
        </p:blipFill>
        <p:spPr>
          <a:xfrm>
            <a:off x="684360" y="1413000"/>
            <a:ext cx="3166920" cy="1584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Kierunek do wyjścia drogi w prawo"/>
          <p:cNvPicPr/>
          <p:nvPr/>
        </p:nvPicPr>
        <p:blipFill>
          <a:blip r:embed="rId3"/>
          <a:stretch/>
        </p:blipFill>
        <p:spPr>
          <a:xfrm>
            <a:off x="5148360" y="1484280"/>
            <a:ext cx="3240000" cy="1622520"/>
          </a:xfrm>
          <a:prstGeom prst="rect">
            <a:avLst/>
          </a:prstGeom>
          <a:ln w="0">
            <a:noFill/>
          </a:ln>
        </p:spPr>
      </p:pic>
      <p:sp>
        <p:nvSpPr>
          <p:cNvPr id="386" name="pole tekstowe 5"/>
          <p:cNvSpPr/>
          <p:nvPr/>
        </p:nvSpPr>
        <p:spPr>
          <a:xfrm>
            <a:off x="5148360" y="321300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ierunek do wyjścia drogi ewakuacyjnej (w praw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6" descr="Kierunek drogi ewakuacyjnej;3"/>
          <p:cNvPicPr/>
          <p:nvPr/>
        </p:nvPicPr>
        <p:blipFill>
          <a:blip r:embed="rId4"/>
          <a:stretch/>
        </p:blipFill>
        <p:spPr>
          <a:xfrm>
            <a:off x="2916360" y="4365720"/>
            <a:ext cx="3816360" cy="1271520"/>
          </a:xfrm>
          <a:prstGeom prst="rect">
            <a:avLst/>
          </a:prstGeom>
          <a:ln w="0">
            <a:noFill/>
          </a:ln>
        </p:spPr>
      </p:pic>
      <p:sp>
        <p:nvSpPr>
          <p:cNvPr id="388" name="Symbol zastępczy zawartości 6"/>
          <p:cNvSpPr/>
          <p:nvPr/>
        </p:nvSpPr>
        <p:spPr>
          <a:xfrm>
            <a:off x="2771640" y="5805360"/>
            <a:ext cx="4537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Kierunek drogi ewakuacyj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7" descr="Kierunek drogi ewakuacyjnej2"/>
          <p:cNvPicPr/>
          <p:nvPr/>
        </p:nvPicPr>
        <p:blipFill>
          <a:blip r:embed="rId1"/>
          <a:stretch/>
        </p:blipFill>
        <p:spPr>
          <a:xfrm>
            <a:off x="1547640" y="2997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390" name="Prostokąt 7"/>
          <p:cNvSpPr/>
          <p:nvPr/>
        </p:nvSpPr>
        <p:spPr>
          <a:xfrm>
            <a:off x="0" y="5013360"/>
            <a:ext cx="518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ierunek drogi ewakuacyjnej 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znak do stosowania tylk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innymi znaka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Pchać aby otworzyć;"/>
          <p:cNvPicPr/>
          <p:nvPr/>
        </p:nvPicPr>
        <p:blipFill>
          <a:blip r:embed="rId2"/>
          <a:stretch/>
        </p:blipFill>
        <p:spPr>
          <a:xfrm>
            <a:off x="6156360" y="333360"/>
            <a:ext cx="2016000" cy="2014560"/>
          </a:xfrm>
          <a:prstGeom prst="rect">
            <a:avLst/>
          </a:prstGeom>
          <a:ln w="0">
            <a:noFill/>
          </a:ln>
        </p:spPr>
      </p:pic>
      <p:sp>
        <p:nvSpPr>
          <p:cNvPr id="392" name="Prostokąt 9"/>
          <p:cNvSpPr/>
          <p:nvPr/>
        </p:nvSpPr>
        <p:spPr>
          <a:xfrm>
            <a:off x="5667840" y="249228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chać, aby otworzy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1" descr="Drzwi ewakuacyjne;2"/>
          <p:cNvPicPr/>
          <p:nvPr/>
        </p:nvPicPr>
        <p:blipFill>
          <a:blip r:embed="rId3"/>
          <a:stretch/>
        </p:blipFill>
        <p:spPr>
          <a:xfrm>
            <a:off x="6227640" y="3500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394" name="pole tekstowe 11"/>
          <p:cNvSpPr/>
          <p:nvPr/>
        </p:nvSpPr>
        <p:spPr>
          <a:xfrm>
            <a:off x="5364000" y="551664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rzwi ewakuacyjne (praw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0" descr="Wyjście ewakuacyjne;"/>
          <p:cNvPicPr/>
          <p:nvPr/>
        </p:nvPicPr>
        <p:blipFill>
          <a:blip r:embed="rId4"/>
          <a:stretch/>
        </p:blipFill>
        <p:spPr>
          <a:xfrm>
            <a:off x="1332000" y="549360"/>
            <a:ext cx="2808360" cy="1403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684360" y="2133720"/>
            <a:ext cx="400032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yjście ewakuacyj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http://modpoz.pl/files/plan1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pole tekstowe 2"/>
          <p:cNvSpPr/>
          <p:nvPr/>
        </p:nvSpPr>
        <p:spPr>
          <a:xfrm>
            <a:off x="179280" y="62118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kładowy plan ewakuacyjn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</a:t>
            </a:r>
            <a:r>
              <a:rPr b="0" lang="pl-PL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http://modpoz.pl/files/plan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068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W razie potrzeby (pożar, wypadek lub awaria) zaalarmować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gotowie Ratunkowe          ………tel.       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999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licję                                  ………tel.       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997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  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gotowie Gazowe               ………tel.     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  992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gotowie Energetyczne        ………tel.      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991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gotowie Wodociągowe        ………tel.      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994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Uniwersalny numer alarmowy ……… tel.     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112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ytuł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C:\Users\Marzena\AppData\Local\Microsoft\Windows\Temporary Internet Files\Content.IE5\8XW2J9XG\MC900078762[1].wmf"/>
          <p:cNvPicPr/>
          <p:nvPr/>
        </p:nvPicPr>
        <p:blipFill>
          <a:blip r:embed="rId2"/>
          <a:stretch/>
        </p:blipFill>
        <p:spPr>
          <a:xfrm>
            <a:off x="7524720" y="260280"/>
            <a:ext cx="111780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24000" y="404280"/>
            <a:ext cx="8496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Arial"/>
              </a:rPr>
              <a:t>PAMIĘTAJMY,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pl-PL" sz="3000" spc="-1" strike="noStrike">
                <a:solidFill>
                  <a:srgbClr val="c00000"/>
                </a:solidFill>
                <a:latin typeface="Arial"/>
                <a:ea typeface="Arial"/>
              </a:rPr>
              <a:t>AKCJA BĘDZIE PRZEBIEGAŁA SPRAWNIE, JEŻELI WSZYSCY ZACHOWAJĄ SPOKÓJ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c00000"/>
                </a:solidFill>
                <a:latin typeface="Arial"/>
                <a:ea typeface="Arial"/>
              </a:rPr>
              <a:t>I PODPORZĄDKUJĄ SIĘ WYDAWANYM POLECENIOM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5" descr="C:\Users\Marzena\AppData\Local\Microsoft\Windows\Temporary Internet Files\Content.IE5\BBL10B36\MC900428289[1].wmf"/>
          <p:cNvPicPr/>
          <p:nvPr/>
        </p:nvPicPr>
        <p:blipFill>
          <a:blip r:embed="rId1"/>
          <a:stretch/>
        </p:blipFill>
        <p:spPr>
          <a:xfrm>
            <a:off x="3419640" y="4076640"/>
            <a:ext cx="2617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2:38:21Z</dcterms:created>
  <dc:creator>Marzena</dc:creator>
  <dc:description/>
  <dc:language>en-US</dc:language>
  <cp:lastModifiedBy>Marzena</cp:lastModifiedBy>
  <dcterms:modified xsi:type="dcterms:W3CDTF">2013-08-09T12:37:13Z</dcterms:modified>
  <cp:revision>30</cp:revision>
  <dc:subject/>
  <dc:title>Zasady zachowania podczas ogłoszenia alarmu i oznakowanie drogi ewakuacyjnej</dc:title>
</cp:coreProperties>
</file>